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move the slide</a:t>
            </a:r>
            <a:endParaRPr b="0" lang="en-US" sz="3600" spc="-1" strike="noStrike">
              <a:solidFill>
                <a:srgbClr val="ffff00"/>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ABDF-5311-4034-BD61-54613685E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B4DB-0450-4ECF-8D6D-4C4D330CA2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7455-625B-4E24-A716-C4B109DDAE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cataract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to remove the catara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E744-372C-40A2-BCCC-D62802308B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glaucoma is left untreate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ymptoms of glaucoma?</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surgery is needed to create opening in the iris.</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1D32-628A-4C2E-9132-8E4FC84F00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ed to be age-related. Genetic factors and exposure to bright light are also relate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ular degeneration is the most common cause of blindness in the United State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re a cure for macular degeneration?</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reatm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72FA-89B0-404E-BF19-885242AD1E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s 8-10 years after onset of diabetes mellitus, especially those with poor glucose control.</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for diabetic retinopathy?</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C7D9-A686-4866-88C9-BE509722AD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symptom is dark shadow from periphery extending inwar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the retina to detach?</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pt surgical treatment is needed to reattach and prevent extension of tear.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otherapy can be used to treat tears without detachment.</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A3DB-226C-41AA-96A0-C8A21F7B41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79FB-F0F7-43EB-AFBD-DA09E387A6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hearing, what other functions do ears perform?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problems would prevent the relay of sound from the outer ear to the inner ear?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orders of hearing can occur with problems in any of these physiologic steps.</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860A-C3C0-4B77-8BD0-D7A21A375F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causes of hearing los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rugs or medications can cause hearing problems (e.g., aspirin, loop diuretics, chemotherapy agent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nvironmental chemicals can cause permanent hearing loss (e.g., hexane, xylen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60A7-3DEA-473C-B5CE-1BAE180FF7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wimmer’s ear? Is it actually caused by swimming?</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osclerosis is an abnormal bony growth in the middle ear.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does otosclerosis usually affec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F5CF-F415-4AFE-A3D9-E11D21348C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caused cerumen accumulation, seborrhea, psoriasis, trauma to the ear canal.</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of infective otitis extern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9A82-B083-4963-973F-166CC26573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orders of vision can occur with problems in any of these physiologic step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rods and cones and what is their function?</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CE62-A3FC-4DBC-80D3-22F1A46089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reason for visits to doctor by children.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otiti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urative otitis is painful, and general symptoms of infection are present. It is caused by bacteria that enters through the nose, throat or ruptured tympanic membrane. Allergic response of the eustachian tube with swelling is sometimes responsibl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82F5-7127-4678-8B1F-49D5C99521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oscope reveals inflamed tympanic membrane that may be bulging from fluid accumulation behind it.</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ringotomy tubes may be inserted to prevent fluid from reaccumulating.</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trophied adenoids may need to be removed if condition becomes chronic.</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0F7D-A539-4957-A8BC-E43BB8F2FC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cause of M</a:t>
            </a:r>
            <a:r>
              <a:rPr b="0" lang="en-US" sz="1200" spc="-1" strike="noStrike">
                <a:solidFill>
                  <a:srgbClr val="000000"/>
                </a:solidFill>
                <a:latin typeface="Arial"/>
              </a:rPr>
              <a:t>é</a:t>
            </a:r>
            <a:r>
              <a:rPr b="0" lang="en-US" sz="1200" spc="-1" strike="noStrike">
                <a:solidFill>
                  <a:srgbClr val="000000"/>
                </a:solidFill>
                <a:latin typeface="Times New Roman"/>
              </a:rPr>
              <a:t>ni</a:t>
            </a:r>
            <a:r>
              <a:rPr b="0" lang="en-US" sz="1200" spc="-1" strike="noStrike">
                <a:solidFill>
                  <a:srgbClr val="000000"/>
                </a:solidFill>
                <a:latin typeface="Arial"/>
              </a:rPr>
              <a:t>è</a:t>
            </a:r>
            <a:r>
              <a:rPr b="0" lang="en-US" sz="1200" spc="-1" strike="noStrike">
                <a:solidFill>
                  <a:srgbClr val="000000"/>
                </a:solidFill>
                <a:latin typeface="Times New Roman"/>
              </a:rPr>
              <a:t>re disease?</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presents between 40-50 year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usea and vomiting, sweating, and loss of balance can accompany the vertigo.</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D5F4-BC9A-4999-A0E3-0B45ADD1D9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symptoms of labyrinthiti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embranes get rupture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issue graft may be indicated, tympanoplasty, to repair the ruptured membran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CCBE-5219-4DB9-BAFB-B73C655FDF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occur spontaneously and suddenly or have a slow onset.</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t termed “occupational hearing los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for sensorineural hearing loss?</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82BA-E459-4826-9736-686BDBA1BA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extrinsic eye muscles control coordinated movements.</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38EF-6ACA-48B5-AD4A-E48BF1C55E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eye disorders can be part of other systemic diseases?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non-vision related symptoms that may indicate problems with the ey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C804-5114-479A-82F2-36C222FBE3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visual disturbances or changes would require immediate medical attention?</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12F2-93A3-4DF4-8CCE-FA215F38AC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signs and symptoms of refractive error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requires fitting with artificial lenses (glasses, contact lenses) or surgical correction.</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yeball shape in hyperopia?</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yeball shape in myopi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A67B-4BC8-4255-A679-CDFFF8EB72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stigmatism, cornea is not spherical and light rays are diffused unevenly.</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esbyopia?</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C451-7EA2-464E-8720-A1D1581AAA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Nystagmus?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bismus can develop in infancy or early childhood. By what age, if treated, is it reversible?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ults, underlying conditions such as hypertension, diabetes, or head injury causes problems with eye muscles or related cranial nerves. Condition may or may not be correctab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14CD-57CB-402E-A88A-909601206C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onjunctiva? Where are they locate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reated with antibiotics or antiviral drugs, if severe. Usually, self-limited and resolves within 1-2 wee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8"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2"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6"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5"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1"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Text Box 5"/>
          <p:cNvSpPr/>
          <p:nvPr/>
        </p:nvSpPr>
        <p:spPr>
          <a:xfrm>
            <a:off x="0" y="6384960"/>
            <a:ext cx="914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sevier items and derived items © 2009 by Saunders, an imprint of Elsevier Inc.</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40"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6"/>
          <p:cNvSpPr/>
          <p:nvPr/>
        </p:nvSpPr>
        <p:spPr>
          <a:xfrm>
            <a:off x="914400" y="2363760"/>
            <a:ext cx="7315200" cy="1827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5</a:t>
            </a:r>
            <a:br>
              <a:rPr sz="3200"/>
            </a:br>
            <a:r>
              <a:rPr b="0" lang="en-US" sz="3200" spc="-1" strike="noStrike">
                <a:solidFill>
                  <a:srgbClr val="ffff00"/>
                </a:solidFill>
                <a:latin typeface="Arial"/>
              </a:rPr>
              <a:t>Diseases and Disorders of the Eye and E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aract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udy area in the le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acity blocks light from reaching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develop slowl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dual reduction of visio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aucoma</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mage to the optic nerve caused by elevated intraocular press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angle vs. closed-angl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major cause of blind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common after age 60, but can occur at any ag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common with nearsightednes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cular Degenera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essive deterioration in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start with mild distortion of central vision and progress to complete lo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both eyes are affect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s to central vision blindness</a:t>
            </a:r>
            <a:endParaRPr b="0" lang="en-US" sz="2400" spc="-1" strike="noStrike">
              <a:solidFill>
                <a:srgbClr val="ffffff"/>
              </a:solidFill>
              <a:latin typeface="Arial"/>
            </a:endParaRPr>
          </a:p>
        </p:txBody>
      </p:sp>
      <p:sp>
        <p:nvSpPr>
          <p:cNvPr id="106"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abetic Retinopathy</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d by small hemorrhages and newly formed vessels in the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d visual clar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both eyes are affect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 cause of blindnes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inal Detach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ion of the retina from the choroi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sudden and painl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symptoms are seeing light flashes and floater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common with nearsighted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in blindness if untreated</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666880"/>
            <a:ext cx="73152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5</a:t>
            </a:r>
            <a:br>
              <a:rPr sz="3200"/>
            </a:br>
            <a:r>
              <a:rPr b="0" lang="en-US" sz="2800" spc="-1" strike="noStrike">
                <a:solidFill>
                  <a:srgbClr val="ffff00"/>
                </a:solidFill>
                <a:latin typeface="Arial"/>
              </a:rPr>
              <a:t>Lesson 5.2</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Hearing</a:t>
            </a:r>
            <a:endParaRPr b="0" lang="en-US" sz="3600" spc="-1" strike="noStrike">
              <a:solidFill>
                <a:srgbClr val="ffff00"/>
              </a:solidFill>
              <a:latin typeface="Arial"/>
            </a:endParaRPr>
          </a:p>
        </p:txBody>
      </p:sp>
      <p:sp>
        <p:nvSpPr>
          <p:cNvPr id="11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ring requir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bratory or sound stimulu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y of sound/vibration to inner ea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mulation of tiny hairs in cochle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e impulses conducted to br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s and symptoms that need medical atten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ring lo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 pain or press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ging or buzzing noise (tinnitu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tigo or dizzi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sea and vomiting</a:t>
            </a:r>
            <a:endParaRPr b="0" lang="en-US" sz="2400" spc="-1" strike="noStrike">
              <a:solidFill>
                <a:srgbClr val="ffffff"/>
              </a:solidFill>
              <a:latin typeface="Arial"/>
            </a:endParaRPr>
          </a:p>
        </p:txBody>
      </p:sp>
      <p:sp>
        <p:nvSpPr>
          <p:cNvPr id="115"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Hearing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a:t>
            </a:r>
            <a:endParaRPr b="0" lang="en-US" sz="3600" spc="-1" strike="noStrike">
              <a:solidFill>
                <a:srgbClr val="ffff00"/>
              </a:solidFill>
              <a:latin typeface="Arial"/>
            </a:endParaRPr>
          </a:p>
        </p:txBody>
      </p:sp>
      <p:sp>
        <p:nvSpPr>
          <p:cNvPr id="11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orders of Conduc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acted cerume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ve otitis exter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mmer’s ea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itis medi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oscler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1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ctive Otitis Externa</a:t>
            </a:r>
            <a:endParaRPr b="0" lang="en-US" sz="32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external ear canal with signs and symptoms of: </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 often sever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 swollen canal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ver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ch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inage, watery or purulen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ring loss</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Vision</a:t>
            </a:r>
            <a:endParaRPr b="0" lang="en-US" sz="3600" spc="-1" strike="noStrike">
              <a:solidFill>
                <a:srgbClr val="ffff00"/>
              </a:solidFill>
              <a:latin typeface="Arial"/>
            </a:endParaRPr>
          </a:p>
        </p:txBody>
      </p:sp>
      <p:sp>
        <p:nvSpPr>
          <p:cNvPr id="86"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 requir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timulu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y of light/image to the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mulation of rods and cones in the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e impulses conducted to br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itis Media</a:t>
            </a:r>
            <a:endParaRPr b="0" lang="en-US" sz="32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the middle ear with signs and symptoms of:</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ling of fullness or pressure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ired hear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 often sever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inage, watery or purulen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ver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usea and vomit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zzines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itis Media</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include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gesics for pain relief</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ongestants to promote drainag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biotics (for suppurative otiti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ringotomy: surgical removal of the fluid in severe cases</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énière Disease</a:t>
            </a:r>
            <a:endParaRPr b="0" lang="en-US" sz="24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disease of the inner ear</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drome includes: vertigo, tinnitus, progressive hearing loss and sensation of pressure</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dden onset of episodes (vertigo, tinnitus, etc.)</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ation of hours to days </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atment is symptomatic relief, not curativ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yrinthit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labyrinth usually from viral or bacterial infection; can result from meningiti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ptured tympanic membran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r or injury resulting from pressure, untreated middle ear infection, force or trau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sorineural Hearing Los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e impulses not transmitted to the brain due to damage to the cochlea or auditory nerv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ring loss can result from loud music, industrial noise, nearby explosion, medications, the aging process, and certain other caus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reversible, so prevention is essent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ormal Eye</a:t>
            </a:r>
            <a:endParaRPr b="0" lang="en-US" sz="3600" spc="-1" strike="noStrike">
              <a:solidFill>
                <a:srgbClr val="ffff00"/>
              </a:solidFill>
              <a:latin typeface="Arial"/>
            </a:endParaRPr>
          </a:p>
        </p:txBody>
      </p:sp>
      <p:pic>
        <p:nvPicPr>
          <p:cNvPr id="88" name="Picture 12" descr="W0256-05-01a"/>
          <p:cNvPicPr/>
          <p:nvPr/>
        </p:nvPicPr>
        <p:blipFill>
          <a:blip r:embed="rId1"/>
          <a:stretch/>
        </p:blipFill>
        <p:spPr>
          <a:xfrm>
            <a:off x="685800" y="1515960"/>
            <a:ext cx="7772400" cy="435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s and symptoms that need medical atten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disturbances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equal pupils or sudden loss of vis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istent pain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ching or burning in or around the eyes</a:t>
            </a:r>
            <a:endParaRPr b="0" lang="en-US" sz="2400" spc="-1" strike="noStrike">
              <a:solidFill>
                <a:srgbClr val="ffffff"/>
              </a:solidFill>
              <a:latin typeface="Arial"/>
            </a:endParaRPr>
          </a:p>
        </p:txBody>
      </p:sp>
      <p:sp>
        <p:nvSpPr>
          <p:cNvPr id="90"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Vision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85800" y="1465200"/>
            <a:ext cx="7772400" cy="445464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s and symptoms that need medical atten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ollen, red eyelid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ness of the ey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inage or exudat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ions/sor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untary eye movement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Vision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a:t>
            </a:r>
            <a:endParaRPr b="0" lang="en-US" sz="3600" spc="-1" strike="noStrike">
              <a:solidFill>
                <a:srgbClr val="ffff00"/>
              </a:solidFill>
              <a:latin typeface="Arial"/>
            </a:endParaRPr>
          </a:p>
        </p:txBody>
      </p:sp>
      <p:sp>
        <p:nvSpPr>
          <p:cNvPr id="94" name="PlaceHolder 2"/>
          <p:cNvSpPr>
            <a:spLocks noGrp="1"/>
          </p:cNvSpPr>
          <p:nvPr>
            <p:ph/>
          </p:nvPr>
        </p:nvSpPr>
        <p:spPr>
          <a:xfrm>
            <a:off x="685800" y="1464840"/>
            <a:ext cx="7772400" cy="2970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ractive Error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opia (Farsightedness)</a:t>
            </a:r>
            <a:endParaRPr b="0" lang="en-US" sz="28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 focused behind the retina, which impairs near vision</a:t>
            </a:r>
            <a:endParaRPr b="0" lang="en-US" sz="20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opia (Nearsightedness)</a:t>
            </a:r>
            <a:endParaRPr b="0" lang="en-US" sz="28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 focused in front of the retina, which impairs far vi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ve Errors </a:t>
            </a:r>
            <a:endParaRPr b="0" lang="en-US" sz="32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igmatism</a:t>
            </a:r>
            <a:endParaRPr b="0" lang="en-US" sz="2800" spc="-1" strike="noStrike">
              <a:solidFill>
                <a:srgbClr val="ffffff"/>
              </a:solidFill>
              <a:latin typeface="Arial"/>
            </a:endParaRPr>
          </a:p>
          <a:p>
            <a:pPr lvl="2" marL="1143000" indent="-228600">
              <a:spcBef>
                <a:spcPts val="60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focused unevenly onto the retina, which causes blurred areas</a:t>
            </a:r>
            <a:endParaRPr b="0" lang="en-US" sz="24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byopia</a:t>
            </a:r>
            <a:endParaRPr b="0" lang="en-US" sz="2800" spc="-1" strike="noStrike">
              <a:solidFill>
                <a:srgbClr val="ffffff"/>
              </a:solidFill>
              <a:latin typeface="Arial"/>
            </a:endParaRPr>
          </a:p>
          <a:p>
            <a:pPr lvl="2" marL="1143000" indent="-228600">
              <a:spcBef>
                <a:spcPts val="60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ye cannot focus quickly to accommodate changes in distance</a:t>
            </a:r>
            <a:endParaRPr b="0" lang="en-US" sz="2400" spc="-1" strike="noStrike">
              <a:solidFill>
                <a:srgbClr val="ffffff"/>
              </a:solidFill>
              <a:latin typeface="Arial"/>
            </a:endParaRPr>
          </a:p>
        </p:txBody>
      </p:sp>
      <p:sp>
        <p:nvSpPr>
          <p:cNvPr id="96"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8"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ystagmu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untary, repetitive, rhythmic movements of one or both eyes</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bismu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 of the eyes to look together in the same direc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lid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00"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junctivit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the conjunctiva in one or both ey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ous discharge from the ey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caused by viral or bacterial infec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y contagiou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ly called “pink ey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2:12:38Z</dcterms:created>
  <dc:creator>Michael &amp; Eleftheria Parafink</dc:creator>
  <dc:description/>
  <dc:language>en-US</dc:language>
  <cp:lastModifiedBy>mflanagan</cp:lastModifiedBy>
  <dcterms:modified xsi:type="dcterms:W3CDTF">2011-06-22T22:06:27Z</dcterms:modified>
  <cp:revision>82</cp:revision>
  <dc:subject/>
  <dc:title>Diseases and Disorders of the Eye and Ear</dc:title>
</cp:coreProperties>
</file>